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738-37E1-4D52-A1D7-B9E7932C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B05-B5AE-440A-BBD5-A7F75DA2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9FB-B498-415F-89E5-9F76D5C3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ACC-8006-4728-A589-B6F22E01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6F8-34EA-4E00-894F-93176A1E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4A3-558D-45DC-BDF6-B74FA8F1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03AA-F1F0-409F-87EA-8DC76B27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0A1-B20B-4EDC-A5A0-63E06735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EF4A-C533-461E-B025-D3E81192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EF33-E8B9-4DED-AEA8-BAAF6936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CD1-8735-4657-93B5-14F138DC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33E-189C-499A-9014-5F804C9B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EC7A-810C-44DC-9F72-DC31E849F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216818KHAPFKsPan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5880" y="0"/>
            <a:ext cx="3048120" cy="81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الربُّ هوالله</a:t>
            </a: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هو صنعنا</a:t>
            </a: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نحن شعبُهُ</a:t>
            </a: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غنمُ مرعاه (×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2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لنَعبُدِ الربّ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بالفرحِ والحمد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لْنَهْتِفَنْ ل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لْنرفَعِ الأيدي 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9839597SVHMFGJHYQ_ph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96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3600" y="304920"/>
            <a:ext cx="3200400" cy="78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نّوا ورنّموا بأعجب الألحان بالأيدي صفقوا لسيد الأكوان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بُّ هوالله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و صنعنا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نحن شعبُهُ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غنمُ مرعاه (×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9839130pPYJDRksSW_ph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7095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62720" y="685800"/>
            <a:ext cx="3352680" cy="91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قدّمُ المجدَ لساكن السماء ونرفعُ الحمدَ لمن في وسطِنا 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بُّ هوالله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و صنعنا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نحن شعبُهُ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غنمُ مرعاه (×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005544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724280"/>
            <a:ext cx="91440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اسمِ الهِنا سنرفع الرايات ولخلاصِه ِ ستعلو الترنيمات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بُّ هوالله هو صنعنا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نحن شعبُهُ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غنمُ مرعاه (×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2-11-25T15:41:27Z</dcterms:modified>
  <cp:revision>7</cp:revision>
  <dc:subject/>
  <dc:title>PowerPoint Presentation</dc:title>
</cp:coreProperties>
</file>